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jpeg" ContentType="image/jpeg"/>
  <Override PartName="/ppt/media/image9.wmf" ContentType="image/x-wmf"/>
  <Override PartName="/ppt/media/image11.wmf" ContentType="image/x-wmf"/>
  <Override PartName="/ppt/media/image12.gif" ContentType="image/gif"/>
  <Override PartName="/ppt/media/image1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9DF5-0536-48E9-9B37-2D91A2DA8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A9CE-3E72-4B43-BDA0-899C7FC4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7B84BD-00BB-4CF3-923B-829912E83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DD7A485-699C-4E09-AF3A-B19F2C970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CAC0D5-BE61-4054-A1DF-8E03FD622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CBBDC15-981A-4B7D-A8CF-F1E1D8DEB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4526F3E-B1F3-49A9-BECA-6FCA166D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35E312-A464-4209-8A92-79781339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B753AB-0D00-4772-9C86-80109F188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79AE024-C7DD-4F75-8EAB-5BD8C836EE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2019704-E20D-4992-A7AD-68320CA92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C05C9CC-26BF-456D-A616-FD49D360F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530F-16AA-407F-9A1A-1DDEF7A49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F7F0B2B-9238-4D93-878D-897A9239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44D57A-7AEA-46DC-8D26-15513104F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DC6E588-8AC2-4720-A582-0F1A7017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7620830-3CF3-434C-A1C2-E8A2B944A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A1992A8-33EC-44DE-B40F-018EB23F4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1313D4-E2A3-4F4C-B806-1B6FD227A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ECD12ED-9380-4C28-97A1-2CACB1696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B1D9CE-21DA-4A01-A3D4-61506A0B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DD0730-5A3C-4CE1-89BE-FA7B838C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C4B7B1-367E-4A9B-8880-E66709D6D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2597-C1A9-4BC3-8563-6DC868A53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FFB97FE-C13D-4DA8-8644-5FA093838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9B0A4A-2DE1-4E9B-B866-41DE9A161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F23E8D-C075-40D7-B5EA-72DFBDB7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48A834-A255-4B3C-AE68-D2D2990F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CCF949-90D5-45E4-B2B3-AC0B214BD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DDECB-1D05-448A-AB71-B9B20DF98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4FC9F-03DF-4348-A998-08FF5C9CE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804DC-1242-4172-B730-04C4D6AAA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77A2D-7FBD-469B-8A26-7E3413171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00CE0-B615-416D-9B09-70894B40D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CC289-3C0F-4F29-8E50-E254592AD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8F9D66-3115-489C-9B74-E1B792B91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8D7B8F-0D19-4110-BB0C-1B9245308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21B6E-A087-47D0-84C0-2DAB36A3D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D4DFCF-ABE1-4C63-9E84-F15C05DA6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049AC56-B6A7-40DC-8336-716EB8EA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AB51F33-0556-4FFC-A218-B8FCFB51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1122CDF-348A-4A9C-828F-42F30E9E5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4818F0-2D1D-42F1-A0A0-AD7B6D5F6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9CB58E4-CF58-476A-ABA1-2073FCA70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ECD47F-1AE8-4AF4-98DF-D20317D2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728C3-5594-4CAE-B5CF-29B7986C0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FE893A9-6DA6-434D-A99E-5F22AF421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E7BD416-BC45-4959-92CB-F442002BB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AE9779-0CE2-43B6-8878-1B2F0F525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40BD364-024D-433A-BB68-95B8E1D35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29F6D1-38FF-4EBC-915D-A48E9ADE4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034FC-4D1E-4311-AEDD-D157B19DF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F201-4037-466D-B296-3F2BDEE4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A1509-524F-411A-9A65-2EE97B775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D378-4484-4FBE-9BCB-43EC8439A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B4628-D6BB-4B2B-9342-D9B609EB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8332-5760-4672-9D77-140D0024D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CE66-CC01-4D7E-8FF7-F9C37B17D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D109-1544-4950-BBAB-DBABAA1B4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F1E4-A645-4CFD-8FBC-EACA073C8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06D6-6ADE-43C4-B51A-699FF4DA0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1EAC8-BB60-4231-B734-3C70063C5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5BFB-7CD0-48E5-B14F-24B4B90C2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67C595-9C79-4CA4-97B3-D6581E726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B8F6F9-B800-4BA6-B283-C5356963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D98CF-F700-4721-83BA-C6DF3A3F5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32ACF-261F-4B45-A585-4391F119A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2B7-CADF-4EDE-A1AD-2972C2B94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F07E4-62F3-4653-B6B9-ACE9CF4A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7FC1-7F26-40F7-8467-1BFE518B5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2AF569-9228-4FC5-AF96-E531A71C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865A0F-AEC6-4861-BDAC-1F7696A0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F235E-61C8-437A-9925-18F58E72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6AB15-E353-43E3-B7A4-9CDE18F18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3ED6E7-8F58-430D-B173-57DEC3D42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C128DE-4337-4773-B06C-CABBB8720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E7B289-2B01-47BD-82C6-30FB1FA73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85534-88CA-47A4-B105-02316943A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5ACD-6D11-4662-AADC-69684B79F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E13F95-0DAB-40EA-B052-90456435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6FA3E2-1EB3-4C33-B6D8-784297239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281C71-4BCC-41BE-874E-D3D0AB77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AF1C7-7E56-4961-A65A-79884BB22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8601E2-C315-420D-8E4C-F53B92CE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9274ED-5CD2-4BC7-AA13-4C9709521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AFB44D-86AC-4436-ACEF-59CD3763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C4D870-7FAD-4388-92A0-71BEBE7F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B97B39-D9C0-47C3-BABF-CB78DD64E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DF0A8-F0F5-4DA1-8F43-07BCBD820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1E8A-42A2-4D8C-B25C-4E52DFA16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1E4AA-B232-4CBF-8FCD-5D764D5F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4CBD3-9CA9-43FE-AC34-E299D95AF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64C408-42DE-466A-B4F4-EAB4B709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EDD0AB-79AA-4A81-A8DE-F64B9952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B2F3DB-CDB8-43B6-8CA2-B183C81B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C41C7-7903-45F3-8150-BBA4BFD96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5381FE-28AC-4363-BF53-8A19D343A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B2EE9-5762-4154-B6FC-63C431D2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F7760B-8CC0-48B5-B07D-EBC76A34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2DF614-013F-4285-95EC-E456E6328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572-7C58-4D25-B391-9061F2C95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9A2AA5-250E-4D64-9FAB-9A8DFF599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88EFC-5438-49EF-AA0B-335F2AE9DB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492D1-24EB-4A98-845F-0336522FB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1D15F5-33DB-4517-869C-F258FD864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CDF0C-657C-4963-9098-793338A66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41FCD6-326F-4612-AF9C-81E56178A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1E61FC-16CF-4328-A750-8236E1364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FFC89D-E30A-441C-98C7-7CF72298A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B43823-E927-4994-B657-25AEFE8E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B8EAE0-8F4F-436F-B388-FAE68E2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EB31-7509-4FC1-94FE-3B24BA91F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9279B-0563-4344-8E6E-1DFEF4F5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15EB3-542A-405E-95FE-95154131C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E11762-87E3-407D-8BB0-FDD60CCBF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BF691-2DB0-4C15-A5C7-083280BA2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6B4061-6F55-45AF-B98D-B2FF4AD7D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BE2972-41C1-4D29-A8A2-B8F74C98B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DE20C2-24E4-4DAB-8500-983C213AA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E9E61-5801-48C0-96D8-92BD4ABD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395D31-CC48-48A5-ACB5-434BAD8B8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290AE-F4FD-4C55-AB82-E0C5C0C6F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B9D9-ABB2-44E1-809B-9922C0666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C6A49-8EC5-44DD-8C74-DCF674A7D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7D0210-A58E-40E0-BA86-CC71269CA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A52422-0DB4-4107-B36C-ED84DAE36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D4086-F370-4D58-A583-9BB34A96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CB99A6-73B1-4497-8990-340F4D152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10C180-2041-4F96-AF44-E59CBCA52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10FA5-7417-4DA4-8AA7-84ECA147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02A44-2918-41E1-806D-96E7206D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F16D7B-FBA3-46F3-B692-F5A1E0FA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FFA45-07E3-4657-B4CD-7154FBC60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4ABE-F3A0-4CA3-B6C7-DC7546C7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D7567-ED14-40F7-A62C-6262713D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46355B-FB47-4865-B098-FE41CDC78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AEEE9-2DB0-458B-B2F2-B3BDED58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415C6-A65D-4848-ABF8-EF1BEA0EB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450E12-5941-4723-89C0-5BFB4C8BD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583B96-F2E4-4463-95BC-6A867ECFF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D4FE72-6F58-461B-8FEC-5F78E445D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3D8280-125A-4688-BB00-BA6557F8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C09BCA1-939E-4952-8839-06D8C087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5801B3-6A13-41FC-BE8D-8F07FD9C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5885-03A5-4B09-B7B5-A7B562BEE1B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3889-DC25-4BF2-B093-70E0E33B45B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A9763-351F-41A5-BA61-C83FB0456D7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DBE30-6013-471C-9DCA-28690A7A7DC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CCE4E-7C50-43D7-87E7-94F89D3347F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B7C4-C849-440E-9484-83ACE5DA770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C60CC-1C02-458A-888B-73EF3ED2C7F2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98F0E-6251-4402-BB4D-039A0FBEB8C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FB35E-024E-4FEB-8D5F-D4577AFE991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21EB-276C-44B6-8364-F722F537A6E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12910-A7FE-4D8A-809D-B9ADB2254BB0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17C0B-4E0B-4998-BE6E-1DCF711D56E9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362720" cy="442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이론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액체에 들어 있는 물을 제외한 모든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일반적 정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103~105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건조할 때 증발 잔류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sidue upon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vaporation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남는 물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증기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apor pressure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큰 물질은 이 과정에서 모두 소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부분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무게 분석법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gravimetric method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의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총고형물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Total Solids, TS)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의 구성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구분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871560" y="326880"/>
            <a:ext cx="53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SS (Suspended Solid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Text Box 5"/>
          <p:cNvSpPr/>
          <p:nvPr/>
        </p:nvSpPr>
        <p:spPr>
          <a:xfrm>
            <a:off x="783360" y="500040"/>
            <a:ext cx="18478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SS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6" name="Text Box 6"/>
          <p:cNvSpPr/>
          <p:nvPr/>
        </p:nvSpPr>
        <p:spPr>
          <a:xfrm>
            <a:off x="1547280" y="98892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7" name="Text Box 6"/>
          <p:cNvSpPr/>
          <p:nvPr/>
        </p:nvSpPr>
        <p:spPr>
          <a:xfrm>
            <a:off x="2124360" y="1373040"/>
            <a:ext cx="57909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8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90" name="Text Box 6"/>
          <p:cNvSpPr/>
          <p:nvPr/>
        </p:nvSpPr>
        <p:spPr>
          <a:xfrm>
            <a:off x="2043360" y="2500200"/>
            <a:ext cx="59000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에서의 미생물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VSS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기조를 중심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ss Balan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세우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결과를 토대로 확인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위의 두 가지 결과에 대해 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하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Rectangle 19"/>
          <p:cNvSpPr/>
          <p:nvPr/>
        </p:nvSpPr>
        <p:spPr>
          <a:xfrm rot="5400000">
            <a:off x="2412720" y="2152440"/>
            <a:ext cx="2736720" cy="1152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Rectangle 17"/>
          <p:cNvSpPr/>
          <p:nvPr/>
        </p:nvSpPr>
        <p:spPr>
          <a:xfrm>
            <a:off x="3205080" y="1360440"/>
            <a:ext cx="4535640" cy="504720"/>
          </a:xfrm>
          <a:prstGeom prst="rect">
            <a:avLst/>
          </a:prstGeom>
          <a:gradFill rotWithShape="0">
            <a:gsLst>
              <a:gs pos="0">
                <a:srgbClr val="009999"/>
              </a:gs>
              <a:gs pos="100000">
                <a:srgbClr val="ccff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"/>
          <p:cNvSpPr/>
          <p:nvPr/>
        </p:nvSpPr>
        <p:spPr>
          <a:xfrm>
            <a:off x="809640" y="64296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의 분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787" name="Group 16"/>
          <p:cNvGrpSpPr/>
          <p:nvPr/>
        </p:nvGrpSpPr>
        <p:grpSpPr>
          <a:xfrm>
            <a:off x="3585960" y="1290600"/>
            <a:ext cx="3911400" cy="2736720"/>
            <a:chOff x="3585960" y="1290600"/>
            <a:chExt cx="3911400" cy="2736720"/>
          </a:xfrm>
        </p:grpSpPr>
        <p:sp>
          <p:nvSpPr>
            <p:cNvPr id="788" name="Rectangle 7"/>
            <p:cNvSpPr/>
            <p:nvPr/>
          </p:nvSpPr>
          <p:spPr>
            <a:xfrm>
              <a:off x="3768480" y="1290600"/>
              <a:ext cx="3379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        =        VS       +        F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89" name="Rectangle 8"/>
            <p:cNvSpPr/>
            <p:nvPr/>
          </p:nvSpPr>
          <p:spPr>
            <a:xfrm>
              <a:off x="3705840" y="2403360"/>
              <a:ext cx="35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SS       =       VSS      +       F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0" name="Rectangle 9"/>
            <p:cNvSpPr/>
            <p:nvPr/>
          </p:nvSpPr>
          <p:spPr>
            <a:xfrm>
              <a:off x="3678840" y="3506760"/>
              <a:ext cx="361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TDS       =       VDS     +       F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1" name="Rectangle 10"/>
            <p:cNvSpPr/>
            <p:nvPr/>
          </p:nvSpPr>
          <p:spPr>
            <a:xfrm rot="5400000">
              <a:off x="368280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2" name="Rectangle 11"/>
            <p:cNvSpPr/>
            <p:nvPr/>
          </p:nvSpPr>
          <p:spPr>
            <a:xfrm rot="5400000">
              <a:off x="369252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3" name="Rectangle 12"/>
            <p:cNvSpPr/>
            <p:nvPr/>
          </p:nvSpPr>
          <p:spPr>
            <a:xfrm rot="5400000">
              <a:off x="543384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4" name="Rectangle 13"/>
            <p:cNvSpPr/>
            <p:nvPr/>
          </p:nvSpPr>
          <p:spPr>
            <a:xfrm rot="5400000">
              <a:off x="544356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5" name="Rectangle 14"/>
            <p:cNvSpPr/>
            <p:nvPr/>
          </p:nvSpPr>
          <p:spPr>
            <a:xfrm rot="5400000">
              <a:off x="7064280" y="187380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=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6" name="Rectangle 15"/>
            <p:cNvSpPr/>
            <p:nvPr/>
          </p:nvSpPr>
          <p:spPr>
            <a:xfrm rot="5400000">
              <a:off x="7073640" y="2959560"/>
              <a:ext cx="32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  <a:ea typeface="HY그래픽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797" name="Group 56"/>
          <p:cNvGrpSpPr/>
          <p:nvPr/>
        </p:nvGrpSpPr>
        <p:grpSpPr>
          <a:xfrm>
            <a:off x="412560" y="1338120"/>
            <a:ext cx="3673800" cy="3194280"/>
            <a:chOff x="412560" y="1338120"/>
            <a:chExt cx="3673800" cy="3194280"/>
          </a:xfrm>
        </p:grpSpPr>
        <p:sp>
          <p:nvSpPr>
            <p:cNvPr id="798" name="Oval 22"/>
            <p:cNvSpPr/>
            <p:nvPr/>
          </p:nvSpPr>
          <p:spPr>
            <a:xfrm>
              <a:off x="1403280" y="133812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99" name="Oval 23"/>
            <p:cNvSpPr/>
            <p:nvPr/>
          </p:nvSpPr>
          <p:spPr>
            <a:xfrm>
              <a:off x="1619280" y="155376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0" name="Oval 24"/>
            <p:cNvSpPr/>
            <p:nvPr/>
          </p:nvSpPr>
          <p:spPr>
            <a:xfrm>
              <a:off x="1979640" y="133812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1" name="Oval 25"/>
            <p:cNvSpPr/>
            <p:nvPr/>
          </p:nvSpPr>
          <p:spPr>
            <a:xfrm>
              <a:off x="205128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2" name="Oval 26"/>
            <p:cNvSpPr/>
            <p:nvPr/>
          </p:nvSpPr>
          <p:spPr>
            <a:xfrm>
              <a:off x="2340000" y="1409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3" name="Oval 27"/>
            <p:cNvSpPr/>
            <p:nvPr/>
          </p:nvSpPr>
          <p:spPr>
            <a:xfrm>
              <a:off x="1332000" y="162684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4" name="Oval 28"/>
            <p:cNvSpPr/>
            <p:nvPr/>
          </p:nvSpPr>
          <p:spPr>
            <a:xfrm>
              <a:off x="1490760" y="15346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5" name="Oval 29"/>
            <p:cNvSpPr/>
            <p:nvPr/>
          </p:nvSpPr>
          <p:spPr>
            <a:xfrm>
              <a:off x="1716120" y="14317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6" name="Oval 30"/>
            <p:cNvSpPr/>
            <p:nvPr/>
          </p:nvSpPr>
          <p:spPr>
            <a:xfrm>
              <a:off x="1884600" y="1680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7" name="Oval 31"/>
            <p:cNvSpPr/>
            <p:nvPr/>
          </p:nvSpPr>
          <p:spPr>
            <a:xfrm>
              <a:off x="1571760" y="17586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8" name="Oval 32"/>
            <p:cNvSpPr/>
            <p:nvPr/>
          </p:nvSpPr>
          <p:spPr>
            <a:xfrm>
              <a:off x="1920960" y="15267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09" name="Oval 33"/>
            <p:cNvSpPr/>
            <p:nvPr/>
          </p:nvSpPr>
          <p:spPr>
            <a:xfrm>
              <a:off x="2313000" y="16855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0" name="Oval 34"/>
            <p:cNvSpPr/>
            <p:nvPr/>
          </p:nvSpPr>
          <p:spPr>
            <a:xfrm>
              <a:off x="2181240" y="15062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1" name="Rectangle 35"/>
            <p:cNvSpPr/>
            <p:nvPr/>
          </p:nvSpPr>
          <p:spPr>
            <a:xfrm>
              <a:off x="482400" y="1338120"/>
              <a:ext cx="46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2" name="Rectangle 36"/>
            <p:cNvSpPr/>
            <p:nvPr/>
          </p:nvSpPr>
          <p:spPr>
            <a:xfrm>
              <a:off x="1042920" y="2777760"/>
              <a:ext cx="1800360" cy="14472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3" name="AutoShape 37"/>
            <p:cNvSpPr/>
            <p:nvPr/>
          </p:nvSpPr>
          <p:spPr>
            <a:xfrm>
              <a:off x="1744920" y="2053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4" name="Oval 38"/>
            <p:cNvSpPr/>
            <p:nvPr/>
          </p:nvSpPr>
          <p:spPr>
            <a:xfrm>
              <a:off x="1332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5" name="Oval 39"/>
            <p:cNvSpPr/>
            <p:nvPr/>
          </p:nvSpPr>
          <p:spPr>
            <a:xfrm>
              <a:off x="1763640" y="2633400"/>
              <a:ext cx="14472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6" name="Oval 40"/>
            <p:cNvSpPr/>
            <p:nvPr/>
          </p:nvSpPr>
          <p:spPr>
            <a:xfrm>
              <a:off x="154800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7" name="Oval 41"/>
            <p:cNvSpPr/>
            <p:nvPr/>
          </p:nvSpPr>
          <p:spPr>
            <a:xfrm>
              <a:off x="2195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8" name="Oval 42"/>
            <p:cNvSpPr/>
            <p:nvPr/>
          </p:nvSpPr>
          <p:spPr>
            <a:xfrm>
              <a:off x="2411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19" name="Oval 43"/>
            <p:cNvSpPr/>
            <p:nvPr/>
          </p:nvSpPr>
          <p:spPr>
            <a:xfrm>
              <a:off x="1979640" y="2633400"/>
              <a:ext cx="144360" cy="142920"/>
            </a:xfrm>
            <a:prstGeom prst="ellipse">
              <a:avLst/>
            </a:prstGeom>
            <a:solidFill>
              <a:srgbClr val="993300"/>
            </a:solidFill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0" name="Oval 44"/>
            <p:cNvSpPr/>
            <p:nvPr/>
          </p:nvSpPr>
          <p:spPr>
            <a:xfrm>
              <a:off x="1474920" y="370800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1" name="Oval 45"/>
            <p:cNvSpPr/>
            <p:nvPr/>
          </p:nvSpPr>
          <p:spPr>
            <a:xfrm>
              <a:off x="1700280" y="36050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2" name="Oval 46"/>
            <p:cNvSpPr/>
            <p:nvPr/>
          </p:nvSpPr>
          <p:spPr>
            <a:xfrm>
              <a:off x="1868760" y="38541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3" name="Oval 47"/>
            <p:cNvSpPr/>
            <p:nvPr/>
          </p:nvSpPr>
          <p:spPr>
            <a:xfrm>
              <a:off x="1555920" y="393192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4" name="Oval 48"/>
            <p:cNvSpPr/>
            <p:nvPr/>
          </p:nvSpPr>
          <p:spPr>
            <a:xfrm>
              <a:off x="1905120" y="370008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5" name="Oval 49"/>
            <p:cNvSpPr/>
            <p:nvPr/>
          </p:nvSpPr>
          <p:spPr>
            <a:xfrm>
              <a:off x="2297160" y="385884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6" name="Oval 50"/>
            <p:cNvSpPr/>
            <p:nvPr/>
          </p:nvSpPr>
          <p:spPr>
            <a:xfrm>
              <a:off x="2165400" y="3679560"/>
              <a:ext cx="69840" cy="6984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7" name="Rectangle 51"/>
            <p:cNvSpPr/>
            <p:nvPr/>
          </p:nvSpPr>
          <p:spPr>
            <a:xfrm>
              <a:off x="420840" y="2417400"/>
              <a:ext cx="60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S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8" name="Rectangle 52"/>
            <p:cNvSpPr/>
            <p:nvPr/>
          </p:nvSpPr>
          <p:spPr>
            <a:xfrm>
              <a:off x="412560" y="3605040"/>
              <a:ext cx="657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TDS</a:t>
              </a:r>
              <a:endParaRPr b="0" lang="en-US" sz="20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29" name="Rectangle 53"/>
            <p:cNvSpPr/>
            <p:nvPr/>
          </p:nvSpPr>
          <p:spPr>
            <a:xfrm>
              <a:off x="2462040" y="4073400"/>
              <a:ext cx="1624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GF/C filter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(pore size </a:t>
              </a:r>
              <a:r>
                <a:rPr b="1" lang="en-US" sz="12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≒ 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.2</a:t>
              </a:r>
              <a:r>
                <a:rPr b="1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</a:t>
              </a: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m)</a:t>
              </a:r>
              <a:endParaRPr b="0" lang="en-US" sz="12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0" name="AutoShape 54"/>
            <p:cNvSpPr/>
            <p:nvPr/>
          </p:nvSpPr>
          <p:spPr>
            <a:xfrm>
              <a:off x="1743120" y="3196800"/>
              <a:ext cx="360360" cy="29232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d1634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31" name="Line 55"/>
            <p:cNvSpPr/>
            <p:nvPr/>
          </p:nvSpPr>
          <p:spPr>
            <a:xfrm flipH="1" flipV="1">
              <a:off x="2626920" y="2922120"/>
              <a:ext cx="36036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pic>
        <p:nvPicPr>
          <p:cNvPr id="832" name="Picture 57" descr="Solid3"/>
          <p:cNvPicPr/>
          <p:nvPr/>
        </p:nvPicPr>
        <p:blipFill>
          <a:blip r:embed="rId2"/>
          <a:srcRect l="0" t="6517" r="0" b="3258"/>
          <a:stretch/>
        </p:blipFill>
        <p:spPr>
          <a:xfrm>
            <a:off x="1547640" y="4530600"/>
            <a:ext cx="6193080" cy="16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5"/>
          <p:cNvSpPr/>
          <p:nvPr/>
        </p:nvSpPr>
        <p:spPr>
          <a:xfrm>
            <a:off x="1165320" y="857160"/>
            <a:ext cx="4871520" cy="44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TS: Total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총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VS: Volatile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FS: Fixed Solids (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비휘발성 고형물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T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Total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총 부유성 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V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Volatile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HY그래픽M"/>
              </a:rPr>
              <a:t>FSS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Fixed Suspended Solids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비휘발성 부유고형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TDS: Total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 용존성 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VDS: Volatile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DS: Fixed Dissolved Solids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비휘발성 용존고형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ext Box 6"/>
          <p:cNvSpPr/>
          <p:nvPr/>
        </p:nvSpPr>
        <p:spPr>
          <a:xfrm>
            <a:off x="809640" y="714240"/>
            <a:ext cx="7362720" cy="533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과 강열 잔류물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온산화 및 휘발을 통하여 감소된 무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량으로 간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휘발성 고형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volatile solids):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시료의 총 유기물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휘발성 유기물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volatile organics)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과는 다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분석법에서의 강열 온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55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특히 탄수화물과 기타의 유기물이 열분해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pyrolysis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되어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탄소가 적당한 속도로 산화될 수 있는 최저온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는 무기염의 분해반응도 최소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하는 동안 배출되지 않은 암모늄염이 휘발하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다른 대부분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염들은 비교적 안정적으로 잔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5" name="Object 7"/>
          <p:cNvGraphicFramePr/>
          <p:nvPr/>
        </p:nvGraphicFramePr>
        <p:xfrm>
          <a:off x="1868400" y="3835440"/>
          <a:ext cx="34419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6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68400" y="3835440"/>
                    <a:ext cx="34419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7" name="Object 8"/>
          <p:cNvGraphicFramePr/>
          <p:nvPr/>
        </p:nvGraphicFramePr>
        <p:xfrm>
          <a:off x="2340000" y="4411800"/>
          <a:ext cx="196992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8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40000" y="4411800"/>
                    <a:ext cx="196992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809640" y="90792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Mg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0" name="Object 6"/>
          <p:cNvGraphicFramePr/>
          <p:nvPr/>
        </p:nvGraphicFramePr>
        <p:xfrm>
          <a:off x="1390680" y="1536840"/>
          <a:ext cx="3397320" cy="45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0680" y="1536840"/>
                    <a:ext cx="3397320" cy="45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2" name="Text Box 7"/>
          <p:cNvSpPr/>
          <p:nvPr/>
        </p:nvSpPr>
        <p:spPr>
          <a:xfrm>
            <a:off x="814320" y="2060640"/>
            <a:ext cx="8078760" cy="27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타 불안정한 무기염들의 양은 총고형물의 양에 비해 매우 적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므로 일반적으로 무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50℃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정확한 온도 설정을 위해 반드시 회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uffle furnace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용융점 ≒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00℃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자체의 무게 손실에 의한 영향을 보정하기 위하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바탕시험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수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Picture 5" descr="filtration assembly"/>
          <p:cNvPicPr/>
          <p:nvPr/>
        </p:nvPicPr>
        <p:blipFill>
          <a:blip r:embed="rId1"/>
          <a:srcRect l="0" t="1587" r="0" b="3175"/>
          <a:stretch/>
        </p:blipFill>
        <p:spPr>
          <a:xfrm>
            <a:off x="1187280" y="1349280"/>
            <a:ext cx="2733840" cy="4913280"/>
          </a:xfrm>
          <a:prstGeom prst="rect">
            <a:avLst/>
          </a:prstGeom>
          <a:ln w="0">
            <a:noFill/>
          </a:ln>
        </p:spPr>
      </p:pic>
      <p:sp>
        <p:nvSpPr>
          <p:cNvPr id="844" name="Line 7"/>
          <p:cNvSpPr/>
          <p:nvPr/>
        </p:nvSpPr>
        <p:spPr>
          <a:xfrm flipV="1">
            <a:off x="2335320" y="191412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5" name="Text Box 8"/>
          <p:cNvSpPr/>
          <p:nvPr/>
        </p:nvSpPr>
        <p:spPr>
          <a:xfrm>
            <a:off x="2875680" y="1652760"/>
            <a:ext cx="138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 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uction funnel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6" name="Line 9"/>
          <p:cNvSpPr/>
          <p:nvPr/>
        </p:nvSpPr>
        <p:spPr>
          <a:xfrm flipH="1" flipV="1">
            <a:off x="1378080" y="2825640"/>
            <a:ext cx="576000" cy="14472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7" name="Text Box 10"/>
          <p:cNvSpPr/>
          <p:nvPr/>
        </p:nvSpPr>
        <p:spPr>
          <a:xfrm>
            <a:off x="645480" y="2521080"/>
            <a:ext cx="10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ilter base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8" name="Line 11"/>
          <p:cNvSpPr/>
          <p:nvPr/>
        </p:nvSpPr>
        <p:spPr>
          <a:xfrm flipV="1">
            <a:off x="3108240" y="2596680"/>
            <a:ext cx="647640" cy="7308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9" name="Text Box 12"/>
          <p:cNvSpPr/>
          <p:nvPr/>
        </p:nvSpPr>
        <p:spPr>
          <a:xfrm>
            <a:off x="3301560" y="229248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mp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0" name="Line 13"/>
          <p:cNvSpPr/>
          <p:nvPr/>
        </p:nvSpPr>
        <p:spPr>
          <a:xfrm flipH="1" flipV="1">
            <a:off x="1507680" y="3308040"/>
            <a:ext cx="576360" cy="144360"/>
          </a:xfrm>
          <a:prstGeom prst="line">
            <a:avLst/>
          </a:prstGeom>
          <a:ln w="15840">
            <a:solidFill>
              <a:srgbClr val="0000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1" name="Text Box 14"/>
          <p:cNvSpPr/>
          <p:nvPr/>
        </p:nvSpPr>
        <p:spPr>
          <a:xfrm>
            <a:off x="496440" y="3008160"/>
            <a:ext cx="14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ilicon stopper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2" name="Text Box 15"/>
          <p:cNvSpPr/>
          <p:nvPr/>
        </p:nvSpPr>
        <p:spPr>
          <a:xfrm>
            <a:off x="2662200" y="4570560"/>
            <a:ext cx="1078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raduated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lass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lask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3" name="Text Box 18"/>
          <p:cNvSpPr/>
          <p:nvPr/>
        </p:nvSpPr>
        <p:spPr>
          <a:xfrm>
            <a:off x="806400" y="428760"/>
            <a:ext cx="16542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고형물 분석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854" name="Group 24"/>
          <p:cNvGrpSpPr/>
          <p:nvPr/>
        </p:nvGrpSpPr>
        <p:grpSpPr>
          <a:xfrm>
            <a:off x="2817720" y="3765600"/>
            <a:ext cx="5570640" cy="2120400"/>
            <a:chOff x="2817720" y="3765600"/>
            <a:chExt cx="5570640" cy="2120400"/>
          </a:xfrm>
        </p:grpSpPr>
        <p:sp>
          <p:nvSpPr>
            <p:cNvPr id="855" name="Line 16"/>
            <p:cNvSpPr/>
            <p:nvPr/>
          </p:nvSpPr>
          <p:spPr>
            <a:xfrm flipH="1">
              <a:off x="2817720" y="3917880"/>
              <a:ext cx="3556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56" name="Text Box 17"/>
            <p:cNvSpPr/>
            <p:nvPr/>
          </p:nvSpPr>
          <p:spPr>
            <a:xfrm>
              <a:off x="2901960" y="3765600"/>
              <a:ext cx="209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o vacuum pump</a:t>
              </a:r>
              <a:endParaRPr b="0" lang="en-US" sz="14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pic>
          <p:nvPicPr>
            <p:cNvPr id="857" name="Picture 19" descr="Vacuum pump"/>
            <p:cNvPicPr/>
            <p:nvPr/>
          </p:nvPicPr>
          <p:blipFill>
            <a:blip r:embed="rId2"/>
            <a:stretch/>
          </p:blipFill>
          <p:spPr>
            <a:xfrm>
              <a:off x="4861080" y="3787560"/>
              <a:ext cx="3527280" cy="209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8" name="Line 20"/>
            <p:cNvSpPr/>
            <p:nvPr/>
          </p:nvSpPr>
          <p:spPr>
            <a:xfrm flipH="1" flipV="1">
              <a:off x="4653000" y="3930120"/>
              <a:ext cx="83808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grpSp>
        <p:nvGrpSpPr>
          <p:cNvPr id="859" name="Group 23"/>
          <p:cNvGrpSpPr/>
          <p:nvPr/>
        </p:nvGrpSpPr>
        <p:grpSpPr>
          <a:xfrm>
            <a:off x="2281320" y="1374840"/>
            <a:ext cx="5748120" cy="2119320"/>
            <a:chOff x="2281320" y="1374840"/>
            <a:chExt cx="5748120" cy="2119320"/>
          </a:xfrm>
        </p:grpSpPr>
        <p:pic>
          <p:nvPicPr>
            <p:cNvPr id="860" name="Picture 21" descr="GF-C"/>
            <p:cNvPicPr/>
            <p:nvPr/>
          </p:nvPicPr>
          <p:blipFill>
            <a:blip r:embed="rId3"/>
            <a:stretch/>
          </p:blipFill>
          <p:spPr>
            <a:xfrm>
              <a:off x="4716360" y="1374840"/>
              <a:ext cx="3313080" cy="21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1" name="Line 22"/>
            <p:cNvSpPr/>
            <p:nvPr/>
          </p:nvSpPr>
          <p:spPr>
            <a:xfrm>
              <a:off x="2281320" y="2800440"/>
              <a:ext cx="2651040" cy="26208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head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862" name="Text Box 26"/>
          <p:cNvSpPr/>
          <p:nvPr/>
        </p:nvSpPr>
        <p:spPr>
          <a:xfrm>
            <a:off x="809640" y="8175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장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3" name="Text Box 27"/>
          <p:cNvSpPr/>
          <p:nvPr/>
        </p:nvSpPr>
        <p:spPr>
          <a:xfrm>
            <a:off x="6384960" y="3008160"/>
            <a:ext cx="2176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iameter: 47m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ean pore size: 1.2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Text Box 5"/>
          <p:cNvSpPr/>
          <p:nvPr/>
        </p:nvSpPr>
        <p:spPr>
          <a:xfrm>
            <a:off x="809640" y="61596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5" name="Text Box 6"/>
          <p:cNvSpPr/>
          <p:nvPr/>
        </p:nvSpPr>
        <p:spPr>
          <a:xfrm>
            <a:off x="1025640" y="1076400"/>
            <a:ext cx="70023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준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개수만큼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모든 여과지를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~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흡입 여과하여 세척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 넣어 실온까지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7"/>
          <p:cNvSpPr/>
          <p:nvPr/>
        </p:nvSpPr>
        <p:spPr>
          <a:xfrm>
            <a:off x="1025640" y="29862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정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 저울을 이용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00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위까지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8"/>
          <p:cNvSpPr/>
          <p:nvPr/>
        </p:nvSpPr>
        <p:spPr>
          <a:xfrm>
            <a:off x="1025640" y="394344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lide 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제시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ilter base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이에 여과지를 놓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amp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밀착시킨다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8" name="Text Box 9"/>
          <p:cNvSpPr/>
          <p:nvPr/>
        </p:nvSpPr>
        <p:spPr>
          <a:xfrm>
            <a:off x="1030320" y="480708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을 주입하면서 흡인 여과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n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부피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V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9" name="Text Box 10"/>
          <p:cNvSpPr/>
          <p:nvPr/>
        </p:nvSpPr>
        <p:spPr>
          <a:xfrm>
            <a:off x="1025640" y="5365800"/>
            <a:ext cx="7578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ction funne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벽면 및 피펫에 부착된 고형물을 증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세척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여지의 수분이 흘러내리지 않을 정도가 되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진공펌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ff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Text Box 5"/>
          <p:cNvSpPr/>
          <p:nvPr/>
        </p:nvSpPr>
        <p:spPr>
          <a:xfrm>
            <a:off x="1025640" y="97488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쿠킹호일 등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가 완료된 여과지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~105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건조기에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건조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데시케이터에서 실온까지 방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1" name="Text Box 6"/>
          <p:cNvSpPr/>
          <p:nvPr/>
        </p:nvSpPr>
        <p:spPr>
          <a:xfrm>
            <a:off x="1042920" y="1787400"/>
            <a:ext cx="70023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량 정밀저울을 이용하여 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2" name="Text Box 7"/>
          <p:cNvSpPr/>
          <p:nvPr/>
        </p:nvSpPr>
        <p:spPr>
          <a:xfrm>
            <a:off x="1042920" y="227340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50℃ muffle furnace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연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반드시 집게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상 주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3" name="Text Box 8"/>
          <p:cNvSpPr/>
          <p:nvPr/>
        </p:nvSpPr>
        <p:spPr>
          <a:xfrm>
            <a:off x="1042920" y="277812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실온까지 방냉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 측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C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4" name="Text Box 9"/>
          <p:cNvSpPr/>
          <p:nvPr/>
        </p:nvSpPr>
        <p:spPr>
          <a:xfrm>
            <a:off x="1042920" y="3281400"/>
            <a:ext cx="700236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된 시료 부피와 비슷한 부피의 증류수를 시료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여  </a:t>
            </a:r>
            <a:r>
              <a:rPr b="0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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~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까지의 과정을 반복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에서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lank test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지 무게 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A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B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r>
              <a:rPr b="1" lang="en-US" sz="1600" spc="-1" strike="noStrike">
                <a:solidFill>
                  <a:srgbClr val="3333ff"/>
                </a:solidFill>
                <a:latin typeface="HY그래픽"/>
                <a:ea typeface="HY그래픽"/>
              </a:rPr>
              <a:t> C</a:t>
            </a:r>
            <a:r>
              <a:rPr b="1" lang="en-US" sz="1600" spc="-1" strike="noStrike">
                <a:solidFill>
                  <a:srgbClr val="3333ff"/>
                </a:solidFill>
                <a:latin typeface="Tahoma"/>
                <a:ea typeface="HY그래픽M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Text Box 5"/>
          <p:cNvSpPr/>
          <p:nvPr/>
        </p:nvSpPr>
        <p:spPr>
          <a:xfrm>
            <a:off x="809640" y="907920"/>
            <a:ext cx="70023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고형물 농도 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6" name="Text Box 6"/>
          <p:cNvSpPr/>
          <p:nvPr/>
        </p:nvSpPr>
        <p:spPr>
          <a:xfrm>
            <a:off x="1025640" y="1368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(Total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77" name="Object 7"/>
          <p:cNvGraphicFramePr/>
          <p:nvPr/>
        </p:nvGraphicFramePr>
        <p:xfrm>
          <a:off x="1403280" y="1989000"/>
          <a:ext cx="4484880" cy="70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8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989000"/>
                    <a:ext cx="448488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9" name="Text Box 8"/>
          <p:cNvSpPr/>
          <p:nvPr/>
        </p:nvSpPr>
        <p:spPr>
          <a:xfrm>
            <a:off x="1030320" y="27813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SS (Fixed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0" name="Object 9"/>
          <p:cNvGraphicFramePr/>
          <p:nvPr/>
        </p:nvGraphicFramePr>
        <p:xfrm>
          <a:off x="1374840" y="3402000"/>
          <a:ext cx="4552920" cy="701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4840" y="3402000"/>
                    <a:ext cx="4552920" cy="70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2" name="Text Box 10"/>
          <p:cNvSpPr/>
          <p:nvPr/>
        </p:nvSpPr>
        <p:spPr>
          <a:xfrm>
            <a:off x="1025640" y="429264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SS (Volatile suspended solids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83" name="Object 11"/>
          <p:cNvGraphicFramePr/>
          <p:nvPr/>
        </p:nvGraphicFramePr>
        <p:xfrm>
          <a:off x="1403280" y="5013360"/>
          <a:ext cx="2718000" cy="36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84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03280" y="5013360"/>
                    <a:ext cx="2718000" cy="3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핑크공주연우</cp:lastModifiedBy>
  <dcterms:modified xsi:type="dcterms:W3CDTF">2010-03-14T14:54:18Z</dcterms:modified>
  <cp:revision>192</cp:revision>
  <dc:subject/>
  <dc:title>슬라이드 1</dc:title>
</cp:coreProperties>
</file>